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jpeg" ContentType="image/jpeg"/>
  <Override PartName="/ppt/media/image3.wmf" ContentType="image/x-wmf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A196C-C578-4421-9C56-4BA59ABBE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C72F9-3DE0-4293-8735-D0FCB9CB6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DA5E4-C73E-4731-9D58-881EBAE98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8CE48-4F0D-471F-AA9A-E6E8219DE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7C156-8F41-499C-AD92-4FC28DBDA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EEE9D-9FCD-4CB4-8CE3-6707F8D2E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FEE89-1CAC-47E5-BAC7-28F748198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DA7A6-CC84-46F4-8D88-174BCC68E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ABAD2-F134-49FE-BD64-05C276D26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A389F-7C53-461A-83CA-4CED789C9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9B9F2-FDB9-420C-9789-DEEAF6798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B2F42-4630-4562-B687-88E52EC95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BA709-D946-4D31-A0BC-27F24379EA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9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C:\Documents and Settings\wanda.williams\My Documents\My Pictures\Microsoft Clip Organizer\j0323744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764400"/>
          </a:xfrm>
          <a:prstGeom prst="rect">
            <a:avLst/>
          </a:prstGeom>
          <a:ln w="0">
            <a:noFill/>
          </a:ln>
        </p:spPr>
      </p:pic>
      <p:sp>
        <p:nvSpPr>
          <p:cNvPr id="42" name="AutoShape 2"/>
          <p:cNvSpPr/>
          <p:nvPr/>
        </p:nvSpPr>
        <p:spPr>
          <a:xfrm rot="16200000">
            <a:off x="4197960" y="2654640"/>
            <a:ext cx="4729320" cy="3676680"/>
          </a:xfrm>
          <a:prstGeom prst="flowChartDelay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a5a5a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Engravers MT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Engravers MT"/>
              </a:rPr>
              <a:t>A solitary oyster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Engravers MT"/>
              </a:rPr>
              <a:t>R.I.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Engravers MT"/>
              </a:rPr>
              <a:t>Ebenezer scroo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0" descr="C:\Documents and Settings\wanda.williams\Local Settings\Temporary Internet Files\Content.IE5\LX2YN4OC\MCBD07752_0000[1].wmf"/>
          <p:cNvPicPr/>
          <p:nvPr/>
        </p:nvPicPr>
        <p:blipFill>
          <a:blip r:embed="rId1"/>
          <a:stretch/>
        </p:blipFill>
        <p:spPr>
          <a:xfrm>
            <a:off x="0" y="0"/>
            <a:ext cx="9144000" cy="6869160"/>
          </a:xfrm>
          <a:prstGeom prst="rect">
            <a:avLst/>
          </a:prstGeom>
          <a:ln w="0">
            <a:noFill/>
          </a:ln>
        </p:spPr>
      </p:pic>
      <p:sp>
        <p:nvSpPr>
          <p:cNvPr id="44" name="AutoShape 2"/>
          <p:cNvSpPr/>
          <p:nvPr/>
        </p:nvSpPr>
        <p:spPr>
          <a:xfrm rot="16200000">
            <a:off x="5598000" y="3164400"/>
            <a:ext cx="3662640" cy="2667240"/>
          </a:xfrm>
          <a:prstGeom prst="flowChartDelay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a5a5a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ppy as an Angel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.I.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roo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2T19:25:11Z</dcterms:created>
  <dc:creator>wanda.williams</dc:creator>
  <dc:description/>
  <dc:language>en-US</dc:language>
  <cp:lastModifiedBy>Valana</cp:lastModifiedBy>
  <dcterms:modified xsi:type="dcterms:W3CDTF">2009-12-09T23:06:55Z</dcterms:modified>
  <cp:revision>7</cp:revision>
  <dc:subject/>
  <dc:title>Slide 1</dc:title>
</cp:coreProperties>
</file>